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2B7C9-0223-4406-9A8E-92D44CFA8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EF1D0-6FD5-44AD-B0FF-AB0E02EBA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11A88-CF40-40EB-8ECA-D11363355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21871-5CD5-44BE-906A-EF40EEC59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69F64-4DF3-4436-98FB-B37071042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99D9A-B163-43A0-BB8E-17CFBE368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5E796-E844-476B-882D-53EB0A8A0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B33CB-5FCF-4948-BB4F-86E76B18E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3D7C0-3FE2-44B4-95C0-8384B873E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8E322-D56B-4E98-8821-75AAD79DC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212BC-0BAE-4AB2-81E1-FBFCCFB51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5972E-E87D-4B99-B12F-7101FBA3A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B1C15-2981-483F-8795-BE7180FE2A3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mbedded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161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slide contains an embedded obje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is a simple harmless ASCII text fi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Object 2" descr=""/>
          <p:cNvPicPr/>
          <p:nvPr/>
        </p:nvPicPr>
        <p:blipFill>
          <a:blip r:embed="rId1"/>
          <a:stretch/>
        </p:blipFill>
        <p:spPr>
          <a:xfrm>
            <a:off x="3132000" y="3860640"/>
            <a:ext cx="2955960" cy="12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1-18T13:13:30Z</dcterms:created>
  <dc:creator>user</dc:creator>
  <dc:description/>
  <dc:language>en-US</dc:language>
  <cp:lastModifiedBy>user</cp:lastModifiedBy>
  <dcterms:modified xsi:type="dcterms:W3CDTF">2018-01-18T13:15:08Z</dcterms:modified>
  <cp:revision>1</cp:revision>
  <dc:subject/>
  <dc:title>Embedded Objects</dc:title>
</cp:coreProperties>
</file>